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FBD-A250-4665-AF9E-F405012C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E5D-FE0B-4DFC-95A6-9A3A068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E82-5FC4-401C-8F93-90329284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91F-EEA8-42DF-BAD2-32D62F8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A22-E7DE-4104-B2D2-597B8768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799-5906-4BB5-9902-1E16D94E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7B3-8533-494F-9816-3557B8B9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D03-4F86-41F9-A2BE-D645CEB2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267-3676-446F-9269-CB7E0CC8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4B8-BCDC-42D7-9FD3-5A3FC405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853-8144-405F-8DF3-EA6450B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B0F-7AA3-4C3D-959B-511C512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461-C8A2-455E-A4B5-8FC65947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532908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614920" y="2276640"/>
            <a:ext cx="352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Атомно-</a:t>
            </a:r>
            <a:endParaRPr b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молекулярное </a:t>
            </a:r>
            <a:endParaRPr b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учение</a:t>
            </a:r>
            <a:endParaRPr b="1" lang="en-US" sz="5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хема 1" descr=""/>
          <p:cNvPicPr/>
          <p:nvPr/>
        </p:nvPicPr>
        <p:blipFill>
          <a:blip r:embed="rId2"/>
          <a:srcRect l="0" t="-16276" r="0" b="-16573"/>
          <a:stretch/>
        </p:blipFill>
        <p:spPr>
          <a:xfrm>
            <a:off x="179280" y="33336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8200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028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028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ять атомов 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емь молекул кисл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три  молекулы 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четыре  молекулы углекислого  газа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56944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028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028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5 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ять атомов 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7 O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семь молекул кисл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3 H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ри  молекулы 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30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4 CO</a:t>
            </a:r>
            <a:r>
              <a:rPr b="1" i="1" lang="en-US" sz="4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четыре  молекулы углекислого  газа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20360" y="1556640"/>
            <a:ext cx="633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Kunstler Script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§ 4, упр. 1—10 (с. 25), § 13, упр. 8—12 (с. 37).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59280" y="378936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189000"/>
            <a:ext cx="30765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этапы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исторического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звития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1304640" cy="158436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9640" y="1197000"/>
            <a:ext cx="1239840" cy="157464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6732720" y="1484280"/>
            <a:ext cx="23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XVII - XVIIIв.в.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2852640"/>
            <a:ext cx="6766920" cy="1870200"/>
            <a:chOff x="2195640" y="2852640"/>
            <a:chExt cx="6766920" cy="1870200"/>
          </a:xfrm>
        </p:grpSpPr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2195640" y="2852640"/>
              <a:ext cx="4824360" cy="1870200"/>
            </a:xfrm>
            <a:prstGeom prst="rect">
              <a:avLst/>
            </a:prstGeom>
            <a:ln w="12600">
              <a:solidFill>
                <a:srgbClr val="993300"/>
              </a:solidFill>
              <a:miter/>
            </a:ln>
          </p:spPr>
        </p:pic>
        <p:sp>
          <p:nvSpPr>
            <p:cNvPr id="49" name=""/>
            <p:cNvSpPr txBox="1"/>
            <p:nvPr/>
          </p:nvSpPr>
          <p:spPr>
            <a:xfrm>
              <a:off x="7775640" y="3359160"/>
              <a:ext cx="118692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993300"/>
                    </a:solidFill>
                    <a:miter/>
                  </a:ln>
                  <a:solidFill>
                    <a:srgbClr val="ffffff"/>
                  </a:solidFill>
                  <a:latin typeface="Monotype Corsiva"/>
                </a:rPr>
                <a:t>XVI в.</a:t>
              </a:r>
              <a:endPara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Monotype Corsiva"/>
                <a:ea typeface="Monotype Corsiva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547640" y="4797360"/>
            <a:ext cx="7237080" cy="1871640"/>
            <a:chOff x="1547640" y="4797360"/>
            <a:chExt cx="7237080" cy="1871640"/>
          </a:xfrm>
        </p:grpSpPr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1547640" y="4797360"/>
              <a:ext cx="6013080" cy="1871640"/>
            </a:xfrm>
            <a:prstGeom prst="rect">
              <a:avLst/>
            </a:prstGeom>
            <a:ln w="12600">
              <a:solidFill>
                <a:srgbClr val="993300"/>
              </a:solidFill>
              <a:miter/>
            </a:ln>
          </p:spPr>
        </p:pic>
        <p:sp>
          <p:nvSpPr>
            <p:cNvPr id="52" name=""/>
            <p:cNvSpPr txBox="1"/>
            <p:nvPr/>
          </p:nvSpPr>
          <p:spPr>
            <a:xfrm>
              <a:off x="7631640" y="5341680"/>
              <a:ext cx="1153080" cy="48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993300"/>
                    </a:solidFill>
                    <a:miter/>
                  </a:ln>
                  <a:solidFill>
                    <a:srgbClr val="ffffff"/>
                  </a:solidFill>
                  <a:latin typeface="Monotype Corsiva"/>
                </a:rPr>
                <a:t>до н.э.</a:t>
              </a:r>
              <a:endPara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Monotype Corsiva"/>
                <a:ea typeface="Monotype Corsiva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067280" y="189000"/>
            <a:ext cx="4897440" cy="1512720"/>
            <a:chOff x="4067280" y="189000"/>
            <a:chExt cx="4897440" cy="1512720"/>
          </a:xfrm>
        </p:grpSpPr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4067280" y="189000"/>
              <a:ext cx="1376280" cy="1512720"/>
            </a:xfrm>
            <a:prstGeom prst="rect">
              <a:avLst/>
            </a:prstGeom>
            <a:ln w="12600">
              <a:solidFill>
                <a:srgbClr val="993300"/>
              </a:solidFill>
              <a:miter/>
            </a:ln>
          </p:spPr>
        </p:pic>
        <p:sp>
          <p:nvSpPr>
            <p:cNvPr id="55" name=""/>
            <p:cNvSpPr txBox="1"/>
            <p:nvPr/>
          </p:nvSpPr>
          <p:spPr>
            <a:xfrm>
              <a:off x="7651800" y="522360"/>
              <a:ext cx="1312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993300"/>
                    </a:solidFill>
                    <a:miter/>
                  </a:ln>
                  <a:solidFill>
                    <a:srgbClr val="ffffff"/>
                  </a:solidFill>
                  <a:latin typeface="Monotype Corsiva"/>
                </a:rPr>
                <a:t>XIX в.</a:t>
              </a:r>
              <a:endPara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Monotype Corsiva"/>
                <a:ea typeface="Monotype Corsiva"/>
              </a:endParaRPr>
            </a:p>
          </p:txBody>
        </p:sp>
      </p:grp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1860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семирный съезд хим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 Карлсру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72872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сновные положения А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ещества состоят из атомов и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Молекулы в химических реакциях разруш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томы в химических реакциях сох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томы разных химических элементов отличаются друг от друга размером, массой и други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Молекулы и атомы находятся в непрерывном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Между молекулами имеются промежутки, размеры которых зависят от агрегатного состояния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39000" y="306360"/>
            <a:ext cx="688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хема распада молекулы воды  Н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1989000"/>
            <a:ext cx="647640" cy="55116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924280"/>
            <a:ext cx="648000" cy="5508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989000"/>
            <a:ext cx="1441440" cy="1417680"/>
          </a:xfrm>
          <a:prstGeom prst="ellipse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 МОЛЕКУЛЫ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2060640"/>
            <a:ext cx="647640" cy="5508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2781360"/>
            <a:ext cx="647640" cy="5508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989000"/>
            <a:ext cx="1441440" cy="1417680"/>
          </a:xfrm>
          <a:prstGeom prst="ellipse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995640" y="1844280"/>
            <a:ext cx="720720" cy="4464000"/>
          </a:xfrm>
          <a:custGeom>
            <a:avLst/>
            <a:gdLst>
              <a:gd name="textAreaLeft" fmla="*/ 0 w 720720"/>
              <a:gd name="textAreaRight" fmla="*/ 260280 w 72072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4365720"/>
            <a:ext cx="1441440" cy="1417680"/>
          </a:xfrm>
          <a:prstGeom prst="ellipse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4365720"/>
            <a:ext cx="1441440" cy="1417680"/>
          </a:xfrm>
          <a:prstGeom prst="ellipse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021360"/>
            <a:ext cx="388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 МОЛЕКУЛА КИСЛОРОДА О</a:t>
            </a:r>
            <a:r>
              <a:rPr b="1" lang="en-US" sz="2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5013360"/>
            <a:ext cx="647640" cy="5508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4437000"/>
            <a:ext cx="647640" cy="5508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013360"/>
            <a:ext cx="647640" cy="5508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4437000"/>
            <a:ext cx="647640" cy="5508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6880" y="5996160"/>
            <a:ext cx="379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 МОЛЕКУЛЫ ВОДОРОДА Н</a:t>
            </a:r>
            <a:r>
              <a:rPr b="1" lang="en-US" sz="20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1128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МОЛЕКУЛ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– мельчайшие частицы вещества, определяющие его состав и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АТОМ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– мельчайшие химически неделимые частицы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728720" cy="1462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хема 1" descr=""/>
          <p:cNvPicPr/>
          <p:nvPr/>
        </p:nvPicPr>
        <p:blipFill>
          <a:blip r:embed="rId2"/>
          <a:srcRect l="-17283" t="-9185" r="-24864" b="-9638"/>
          <a:stretch/>
        </p:blipFill>
        <p:spPr>
          <a:xfrm>
            <a:off x="-828720" y="404640"/>
            <a:ext cx="10296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76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Кристаллическая решётка 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q1.gif"/>
          <p:cNvPicPr/>
          <p:nvPr/>
        </p:nvPicPr>
        <p:blipFill>
          <a:blip r:embed="rId2"/>
          <a:stretch/>
        </p:blipFill>
        <p:spPr>
          <a:xfrm>
            <a:off x="1979640" y="1773360"/>
            <a:ext cx="4968720" cy="3716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reshioda-new.gif"/>
          <p:cNvPicPr/>
          <p:nvPr/>
        </p:nvPicPr>
        <p:blipFill>
          <a:blip r:embed="rId3"/>
          <a:stretch/>
        </p:blipFill>
        <p:spPr>
          <a:xfrm>
            <a:off x="826920" y="5157720"/>
            <a:ext cx="1197000" cy="1162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527.jpg"/>
          <p:cNvPicPr/>
          <p:nvPr/>
        </p:nvPicPr>
        <p:blipFill>
          <a:blip r:embed="rId4"/>
          <a:stretch/>
        </p:blipFill>
        <p:spPr>
          <a:xfrm>
            <a:off x="7236000" y="1484280"/>
            <a:ext cx="128088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хема 2" descr=""/>
          <p:cNvPicPr/>
          <p:nvPr/>
        </p:nvPicPr>
        <p:blipFill>
          <a:blip r:embed="rId2"/>
          <a:srcRect l="0" t="-6819" r="0" b="-6037"/>
          <a:stretch/>
        </p:blipFill>
        <p:spPr>
          <a:xfrm>
            <a:off x="539640" y="0"/>
            <a:ext cx="8207640" cy="5788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q1.gif"/>
          <p:cNvPicPr/>
          <p:nvPr/>
        </p:nvPicPr>
        <p:blipFill>
          <a:blip r:embed="rId3"/>
          <a:stretch/>
        </p:blipFill>
        <p:spPr>
          <a:xfrm>
            <a:off x="5219640" y="76500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reshioda-new.gif"/>
          <p:cNvPicPr/>
          <p:nvPr/>
        </p:nvPicPr>
        <p:blipFill>
          <a:blip r:embed="rId4"/>
          <a:stretch/>
        </p:blipFill>
        <p:spPr>
          <a:xfrm>
            <a:off x="4500720" y="5157720"/>
            <a:ext cx="1196640" cy="1162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527.jpg"/>
          <p:cNvPicPr/>
          <p:nvPr/>
        </p:nvPicPr>
        <p:blipFill>
          <a:blip r:embed="rId5"/>
          <a:stretch/>
        </p:blipFill>
        <p:spPr>
          <a:xfrm>
            <a:off x="7740720" y="5084640"/>
            <a:ext cx="1136520" cy="1209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1:41:48Z</dcterms:created>
  <dc:creator>User</dc:creator>
  <dc:description/>
  <dc:language>en-US</dc:language>
  <cp:lastModifiedBy>User</cp:lastModifiedBy>
  <dcterms:modified xsi:type="dcterms:W3CDTF">2009-07-24T20:35:38Z</dcterms:modified>
  <cp:revision>8</cp:revision>
  <dc:subject/>
  <dc:title>Слайд 1</dc:title>
</cp:coreProperties>
</file>